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F91-EECC-4170-818B-51539C7D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F43-9061-40D4-9915-3FE2677B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00A-B762-480D-9811-643CDD9D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9A2-FE27-42CA-B44B-07C99A6E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7FE4-E45B-4A75-8503-F7CB0B1C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4C21-F62E-4524-8F53-4B581D94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5A56-610D-4860-BE46-F04DA818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DA75-3B29-4768-88AF-BC91217E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0089-44E3-4C98-90B7-EEC42D53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52EE-D0CF-44F9-9D91-CA1C4AE2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E2E6-2134-4BDB-88DE-6E9A7E76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0D8-E17B-4242-AB2E-9FF61DC1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93A8-7416-4742-A96D-FFB5B89F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18AF-A297-40D4-BC38-E56A116E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F408-D5B1-4556-947A-49DC0CE8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F09E-EC7A-44C3-B188-BA791B8F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05BD-1987-42F6-9B4B-8FF1161F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B16-51D9-4FEE-AE96-505F71C8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097-8A02-4328-95AA-B2D7ED81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CFD-A339-44E0-AC3C-71EAAD7A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EE25-F1EE-4038-BB2E-11375D0A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890-623F-4B58-8C08-F515D2B5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434-CC8A-4F80-9628-B461C698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AC4-E338-4331-B79A-5F6E162C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D8E2-28F3-4A86-9243-C7FA20E9144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prstGeom prst="pie">
            <a:avLst/>
          </a:pr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58A0-21B6-4F6B-8861-7B732BEC132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4c2b"/>
                </a:solidFill>
                <a:latin typeface="Times New Roman"/>
              </a:rPr>
              <a:t>The Imperfect Tense:</a:t>
            </a:r>
            <a:br>
              <a:rPr sz="6600"/>
            </a:br>
            <a:r>
              <a:rPr b="0" lang="en-US" sz="6600" spc="-1" strike="noStrike">
                <a:solidFill>
                  <a:srgbClr val="004c2b"/>
                </a:solidFill>
                <a:latin typeface="Times New Roman"/>
              </a:rPr>
              <a:t>Regular-Irregular Verbs</a:t>
            </a:r>
            <a:endParaRPr b="0" lang="en-US" sz="6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Page 63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Avancemos 3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Here are all the forms of -ar verbs in the imperfect.  Notice the accent mark on the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nosotros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form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3352680" y="5410080"/>
            <a:ext cx="4114800" cy="0"/>
          </a:xfrm>
          <a:prstGeom prst="line">
            <a:avLst/>
          </a:prstGeom>
          <a:ln w="7632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CAMINAR (to walk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b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cam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16765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AutoShape 6"/>
          <p:cNvSpPr/>
          <p:nvPr/>
        </p:nvSpPr>
        <p:spPr>
          <a:xfrm>
            <a:off x="57913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426708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Line 8"/>
          <p:cNvSpPr/>
          <p:nvPr/>
        </p:nvSpPr>
        <p:spPr>
          <a:xfrm flipH="1">
            <a:off x="7238520" y="1523880"/>
            <a:ext cx="68580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Since the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and the         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Ud./él/ella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forms are the same, we often use the subject pronouns to avoid confusion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62120" y="457200"/>
            <a:ext cx="314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45560" y="2232000"/>
            <a:ext cx="753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Let’s do a few more verbs.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2209680" y="3962520"/>
            <a:ext cx="556272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PATINAR (to skate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b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 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atin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16765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57913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426708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H="1">
            <a:off x="7086240" y="1600200"/>
            <a:ext cx="68580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USAR (to use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b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s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6765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57913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426708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Line 8"/>
          <p:cNvSpPr/>
          <p:nvPr/>
        </p:nvSpPr>
        <p:spPr>
          <a:xfrm flipH="1">
            <a:off x="6476760" y="1523880"/>
            <a:ext cx="68580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JUGAR (to play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áb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jug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b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6765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5791320" y="44956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426708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6705360" y="1523880"/>
            <a:ext cx="68580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Now we will learn the -er/-ir verb endings in the imperfect tense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2971800" y="4495680"/>
            <a:ext cx="396252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COMER (to eat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41936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     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com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752480" y="449568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5791320" y="441972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34340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VIVIR (to live)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Yo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ú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Él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19360" y="205740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Nos. 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os.       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i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Ellas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viv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ían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Ud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1752480" y="4267080"/>
            <a:ext cx="152640" cy="1600200"/>
          </a:xfrm>
          <a:custGeom>
            <a:avLst/>
            <a:gdLst>
              <a:gd name="textAreaLeft" fmla="*/ 0 w 152640"/>
              <a:gd name="textAreaRight" fmla="*/ 55080 w 15264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5791320" y="426708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4343400" y="1752480"/>
            <a:ext cx="0" cy="4572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1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Preterite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You have already learned to talk about the past using the preterite tense for actions that began and ended at a definite time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Line 4"/>
          <p:cNvSpPr/>
          <p:nvPr/>
        </p:nvSpPr>
        <p:spPr>
          <a:xfrm>
            <a:off x="3352680" y="5562720"/>
            <a:ext cx="426744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Times New Roman"/>
              </a:rPr>
              <a:t>The Imperfect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There are three irregular verbs in the imperfect.  The verbs IR, SER, and VER.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514600" y="5105520"/>
            <a:ext cx="4876920" cy="0"/>
          </a:xfrm>
          <a:prstGeom prst="line">
            <a:avLst/>
          </a:prstGeom>
          <a:ln cap="sq" w="57240">
            <a:solidFill>
              <a:srgbClr val="4282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Times New Roman"/>
              </a:rPr>
              <a:t>IR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iba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iba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iba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íbamo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ibai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iba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4114800" y="1371600"/>
            <a:ext cx="0" cy="5029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 flipH="1">
            <a:off x="5029200" y="1523880"/>
            <a:ext cx="38088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6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1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Times New Roman"/>
              </a:rPr>
              <a:t>SER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era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era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era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éramo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erai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era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4114800" y="1371600"/>
            <a:ext cx="0" cy="5029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 flipH="1">
            <a:off x="5029200" y="1523880"/>
            <a:ext cx="38088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Times New Roman"/>
              </a:rPr>
              <a:t>VER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veía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veía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veía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veíamo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veíais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veían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114800" y="1371600"/>
            <a:ext cx="0" cy="5029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 flipH="1">
            <a:off x="5486400" y="1523880"/>
            <a:ext cx="38088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 flipH="1">
            <a:off x="1523520" y="1676520"/>
            <a:ext cx="38124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H="1">
            <a:off x="5562720" y="5105520"/>
            <a:ext cx="38088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 flipH="1">
            <a:off x="5486400" y="3352680"/>
            <a:ext cx="38088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H="1">
            <a:off x="1523520" y="5105520"/>
            <a:ext cx="38124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Line 11"/>
          <p:cNvSpPr/>
          <p:nvPr/>
        </p:nvSpPr>
        <p:spPr>
          <a:xfrm flipH="1">
            <a:off x="1523520" y="3352680"/>
            <a:ext cx="381240" cy="45720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4c2b"/>
                </a:solidFill>
                <a:latin typeface="Times New Roman"/>
              </a:rPr>
              <a:t>The Imperfect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imperfect form of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hay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is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había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(there was/were, there used to be)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33"/>
                </a:solidFill>
                <a:latin typeface="Times New Roman"/>
              </a:rPr>
              <a:t>Generalmente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, no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había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muchos participantes en el campeonato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2514600" y="5105520"/>
            <a:ext cx="4876920" cy="0"/>
          </a:xfrm>
          <a:prstGeom prst="line">
            <a:avLst/>
          </a:prstGeom>
          <a:ln cap="sq" w="57240">
            <a:solidFill>
              <a:srgbClr val="4282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Preterite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na 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antó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en la fiesta anoche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Ana 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sang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 at the party last night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Completed past action.)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The imperfect tense is another way to talk about the past.  We use it to describe actions without any indication of their beginning or end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3581280" y="5867280"/>
            <a:ext cx="373392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na 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antaba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Ana 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was singing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(No indication of beginning or end.)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We use the imperfect to talk about actions that happened repeatedly in the past.  In English we often say      “used to” or “would” to express this idea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5562720" y="5486400"/>
            <a:ext cx="2514600" cy="0"/>
          </a:xfrm>
          <a:prstGeom prst="line">
            <a:avLst/>
          </a:prstGeom>
          <a:ln w="572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Generalmente 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caminaban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mucho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Generally 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they would walk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 a lot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Jugaban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con otros niños de la familia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They used to play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 with other children in the family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4c2b"/>
                </a:solidFill>
                <a:latin typeface="Times New Roman"/>
              </a:rPr>
              <a:t>Imperfect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Expressions such as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generalmente, a menudo, muchas veces, todos los días, siempre,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nd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nunca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can cue us to use the imperfect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6T21:49:25Z</dcterms:created>
  <dc:creator>NIHS</dc:creator>
  <dc:description/>
  <dc:language>en-US</dc:language>
  <cp:lastModifiedBy>Suzanne</cp:lastModifiedBy>
  <dcterms:modified xsi:type="dcterms:W3CDTF">2009-09-07T19:58:45Z</dcterms:modified>
  <cp:revision>8</cp:revision>
  <dc:subject/>
  <dc:title>No Slide Title</dc:title>
</cp:coreProperties>
</file>